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343080" indent="-343080">
              <a:spcBef>
                <a:spcPts val="700"/>
              </a:spcBef>
              <a:buClr>
                <a:srgbClr val="333399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" name=""/>
          <p:cNvSpPr/>
          <p:nvPr/>
        </p:nvSpPr>
        <p:spPr>
          <a:xfrm>
            <a:off x="842040" y="629460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Palatino"/>
              </a:rPr>
              <a:t>A Gift of Fire, 2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11280" y="6294600"/>
            <a:ext cx="343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apter 2: Privacy and Pers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70800" y="6294600"/>
            <a:ext cx="93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4393-2BB5-4F29-AA59-24CA8001C07D}" type="slidenum">
              <a:rPr b="0" lang="en-US" sz="12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owerPoin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alatino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Slides to Accompan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"/>
              </a:rPr>
              <a:t>A Gift of Fire</a:t>
            </a:r>
            <a:r>
              <a:rPr b="1" i="1" lang="en-US" sz="2800" spc="-1" strike="noStrike">
                <a:solidFill>
                  <a:srgbClr val="000000"/>
                </a:solidFill>
                <a:latin typeface="Palatino"/>
              </a:rPr>
              <a:t>: Social, Legal, and Ethical Issues for Computers and the Interne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(2nd Edition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by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 Sara Baase</a:t>
            </a:r>
            <a:endParaRPr b="0" lang="en-US" sz="20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an Diego State Universit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owerPoint slides created by Sherry Clark</a:t>
            </a:r>
            <a:endParaRPr b="0" lang="en-US" sz="16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opyright 2003 Prentice Hall</a:t>
            </a:r>
            <a:endParaRPr b="0" lang="en-US" sz="16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Big Brother is Watching You”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4</a:t>
            </a:r>
            <a:r>
              <a:rPr b="0" lang="en-US" sz="1800" spc="-1" strike="noStrike" baseline="30000">
                <a:solidFill>
                  <a:srgbClr val="993300"/>
                </a:solidFill>
                <a:latin typeface="Palatino"/>
              </a:rPr>
              <a:t>th</a:t>
            </a: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 Amendmen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pectation of Privacy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’s rights are limit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must have probable cause to search private premises or seize documen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ivacy Challeng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ew sensing and surveillance technologies enable the government access to private premises without physical entr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ew technologies provide the government with access to huge amounts of personal data in business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urts allow some searches and seizures of computers without search warran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7913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as technology strengthened or weakened the spirit of the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mendm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sumer Database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athering Informati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arranty ca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urchasing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embership li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b activ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hange-of-address for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5715000"/>
            <a:ext cx="6705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ways in which you have contributed to consumer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sumer Databases </a:t>
            </a:r>
            <a:r>
              <a:rPr b="0" lang="en-US" sz="1800" spc="-1" strike="noStrike">
                <a:solidFill>
                  <a:srgbClr val="993300"/>
                </a:solidFill>
                <a:latin typeface="Palatino"/>
              </a:rPr>
              <a:t>(cont’d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miting Collection, Use, Sharing, and Sale of Personal Data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sumers can take measures to restrict the use of their personal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ome information sharing is prohibited by law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ome information sharing is prohibited by published, privacy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334120"/>
            <a:ext cx="68580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measures do you take to limit consumer information gathered about you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Marketing: Using Consumer Inform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ading/buying customer li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elemarket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ata Min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ss-market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b a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pam (unsolicited e-mail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715000"/>
            <a:ext cx="6934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are children affected by marketers using consumer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Consumer Inform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redit Bureau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s of consumer informati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valuate credit risk of applica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rket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gulati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CRA (Fair Credit Reporting Act)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lf-regulated by privacy principl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5715000"/>
            <a:ext cx="662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If you are denied credit, what are your rights based on the FC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ocial Security Numbers (SSNs)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ppear i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mployer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chool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dit repor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sumer applica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ny other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5715000"/>
            <a:ext cx="5029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are the risks of using SSNs as identifie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National ID Card System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f implemented, the card could contain your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am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dres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elephone number(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hoto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S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715000"/>
            <a:ext cx="6782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other personal information should a national ID card contai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National ID Card System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f implemented, the system could allow access to your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edical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ax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itizenship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dit histor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715000"/>
            <a:ext cx="6324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re the benefits of a national ID system greater than the risk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ersonal Health and Medical Inform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ata can includ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istory of substance abu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eatment for sexually transmitted disea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xtent of psychiatric help receiv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y suicide attempt(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iagnosis of diseases (diabetes, angina, cancer, etc.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of prescribed medicin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5715000"/>
            <a:ext cx="655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y would marketers want access to your medic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More Privacy Risk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ublic Record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vailable in paper form and/or onlin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ankruptc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rres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rriage-license applic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ivorce proceeding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operty ownership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alary (if employed by state or federal government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ills and Tru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uch 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5715000"/>
            <a:ext cx="5334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hould access to public records be controll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cc"/>
                </a:solidFill>
                <a:latin typeface="Palatino"/>
              </a:rPr>
              <a:t>A Gift of Fire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rivacy and Personal Inform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The Impact of Computer Technolog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Big Brother is Watching You”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onsumer Information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ore Privacy Risks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tecting Privacy: Education, Technology, and Markets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tecting Privacy: Law and Regulation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Education, Technology, and Market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Educ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ust include awareness of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w the technology work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w the technology is being us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risks brought on by the technolog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w to limit unwanted use of personal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pplicable state and federal laws and regula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5715000"/>
            <a:ext cx="6324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do you limit unwanted use of your person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Education, Technology, and Market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echnology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nhance privacy using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okie disabl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pt-in/opt-out op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onymous Web servic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3P (Platform for Privacy Preference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‘</a:t>
            </a: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od’ passw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udit trail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715000"/>
            <a:ext cx="594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privacy-enhancing technology do you use regular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Education, Technology, and Markets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Market Response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rkets can protect your privacy by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ing trusted third part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hering to established privacy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urchasing consumer information directly from the consum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veloping and selling privacy-enhancing technologies and servic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ave you read the privacy policies at Web sites you frequ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hilosophical View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muel Warren &amp; Louis Brandei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dividuals have the right to prohibit publication of personal facts and photo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Judith Jarvis Thompso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o distinct right to privac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ivacy rights result from rights to our property, body, and contrac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ransac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ansactions have two parties, often with conflicting preferences about privac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410080"/>
            <a:ext cx="739152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hould rights to information about transactions between two parties be assign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trasting View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e-market View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parties of a transaction are viewed as equal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ruth in information gather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rong reliance on contrac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reedom of speech and commer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nsumer-Protection View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parties of a transaction are viewed differentl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ore stringent consent requirements required by law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rong limitations on secondary uses of information required by law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egal restrictions on consumer profil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hould the privacy of consumer transactions be regula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tracts and Regulation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Basic Legal Framework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nforce agreements and contrac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ublish privacy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t defaults for situations not in contrac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ing Specific Consent polici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here to informed consumer cons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opt-in poli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egal Regula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termine effectiveness, direct and hidden costs, and any loss of services or inconvenie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562720"/>
            <a:ext cx="73152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 situation where you exchanged personal information for some benef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ntracts and Regulations </a:t>
            </a:r>
            <a:r>
              <a:rPr b="0" lang="en-US" sz="1800" spc="-1" strike="noStrike">
                <a:solidFill>
                  <a:srgbClr val="993300"/>
                </a:solidFill>
                <a:latin typeface="Palatino"/>
              </a:rPr>
              <a:t>(cont’d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Ownership of personal data. Can an individual own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acts (e.g. marriage license in public records)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ersonal information (e.g. your date of birth)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edom of speech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ohibiting communication of information may violate the 1</a:t>
            </a:r>
            <a:r>
              <a:rPr b="0" lang="en-US" sz="1400" spc="-1" strike="noStrike" baseline="30000">
                <a:solidFill>
                  <a:srgbClr val="333399"/>
                </a:solidFill>
                <a:latin typeface="Palatino"/>
              </a:rPr>
              <a:t>st</a:t>
            </a: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 Amendm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en does protecting privacy conflict with freedom of spee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Protecting Privacy: Law and Regula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EU (European Union) Privacy Regulation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Key point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imited collection of personal data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ata must be up-to-date and destroyed when no longer need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sent for sharing data is require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nsitive data (e.g. religion) can only be provided with cons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otify consumers about the collection and intended purpose of data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stricted access and sharing of criminal convic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15000"/>
            <a:ext cx="5181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an the EU’s privacy regulations work in the U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s are not needed for the invasion of privacy.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s simply make new threats possible and old threats more potent.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rivacy can mean: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reedom from intrus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ntrol of information about oneself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Freedom from surveilla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Invisible Information Gather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atellite surveilla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aller I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800- or 900-number call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oyalty ca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b-tracking data; cook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eer-to-peer monitoring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thers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715000"/>
            <a:ext cx="64008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n example of invisible information gathering about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ondary Use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ing information for a purpose other than the one for which it was obtained. A few 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ale (or trade) of consumer information to other busines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dit check by a prospective employ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agency use of consumer databa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410080"/>
            <a:ext cx="754380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n occasion when a secondary use of your personal information was ma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 Match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mbining and comparing information from more than one database. Some 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haring of government agencies’ databases to detect fraud by recipients of government progra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ating consumer dossiers from various business databas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410080"/>
            <a:ext cx="7239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all an example of computer matching that has appeared in the ne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Profil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ing data in computer files to predict likely behaviors of people. Some 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usinesses engage in profiling to determine consumer propensity toward a product or servi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agencies use profiling to create descriptions of possible terroris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410080"/>
            <a:ext cx="6248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might profiling be used with your person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The Impact of Computer Technology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Monitoring and Track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PS (global positioning system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ell-phon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lackboxes in automobil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ther wireless applianc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71500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is the impact of GPS-equipped childrens’ wrist wat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Big Brother is Watching You”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ederal Government Database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urpos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termine eligibility for jobs and progra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duce wast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etect frau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aw enforcem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gula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ivacy Act of 1974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mputer Matching and Privacy Protection Act of 1988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715000"/>
            <a:ext cx="662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ich government databases contains your personal inform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04:21:54Z</dcterms:created>
  <dc:creator>Prentice Hall</dc:creator>
  <dc:description/>
  <dc:language>en-US</dc:language>
  <cp:lastModifiedBy>Sara Mayers</cp:lastModifiedBy>
  <dcterms:modified xsi:type="dcterms:W3CDTF">2003-06-30T23:24:57Z</dcterms:modified>
  <cp:revision>137</cp:revision>
  <dc:subject/>
  <dc:title>Privacy and Personal Information</dc:title>
</cp:coreProperties>
</file>